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9871075" cy="14122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8640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9880" y="6873840"/>
            <a:ext cx="8640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7988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0752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401280" y="299556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3040" y="299556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9880" y="687384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401280" y="687384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3040" y="687384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79880" y="2995560"/>
            <a:ext cx="86407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86407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79880" y="510480"/>
            <a:ext cx="8640720" cy="9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988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0752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9880" y="6873840"/>
            <a:ext cx="8640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.wmf"/><Relationship Id="rId8" Type="http://schemas.openxmlformats.org/officeDocument/2006/relationships/image" Target="../media/image1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.wmf"/><Relationship Id="rId11" Type="http://schemas.openxmlformats.org/officeDocument/2006/relationships/image" Target="../media/image1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.wmf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2.wmf"/><Relationship Id="rId17" Type="http://schemas.openxmlformats.org/officeDocument/2006/relationships/image" Target="../media/image1.png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2.wmf"/><Relationship Id="rId20" Type="http://schemas.openxmlformats.org/officeDocument/2006/relationships/image" Target="../media/image1.png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2.wmf"/><Relationship Id="rId23" Type="http://schemas.openxmlformats.org/officeDocument/2006/relationships/image" Target="../media/image1.png"/><Relationship Id="rId24" Type="http://schemas.openxmlformats.org/officeDocument/2006/relationships/oleObject" Target="../embeddings/oleObject8.bin"/><Relationship Id="rId25" Type="http://schemas.openxmlformats.org/officeDocument/2006/relationships/image" Target="../media/image2.wmf"/><Relationship Id="rId26" Type="http://schemas.openxmlformats.org/officeDocument/2006/relationships/slideLayout" Target="../slideLayouts/slideLayout1.xml"/><Relationship Id="rId27" Type="http://schemas.openxmlformats.org/officeDocument/2006/relationships/slideLayout" Target="../slideLayouts/slideLayout2.xml"/><Relationship Id="rId28" Type="http://schemas.openxmlformats.org/officeDocument/2006/relationships/slideLayout" Target="../slideLayouts/slideLayout3.xml"/><Relationship Id="rId29" Type="http://schemas.openxmlformats.org/officeDocument/2006/relationships/slideLayout" Target="../slideLayouts/slideLayout4.xml"/><Relationship Id="rId30" Type="http://schemas.openxmlformats.org/officeDocument/2006/relationships/slideLayout" Target="../slideLayouts/slideLayout5.xml"/><Relationship Id="rId31" Type="http://schemas.openxmlformats.org/officeDocument/2006/relationships/slideLayout" Target="../slideLayouts/slideLayout6.xml"/><Relationship Id="rId32" Type="http://schemas.openxmlformats.org/officeDocument/2006/relationships/slideLayout" Target="../slideLayouts/slideLayout7.xml"/><Relationship Id="rId33" Type="http://schemas.openxmlformats.org/officeDocument/2006/relationships/slideLayout" Target="../slideLayouts/slideLayout8.xml"/><Relationship Id="rId34" Type="http://schemas.openxmlformats.org/officeDocument/2006/relationships/slideLayout" Target="../slideLayouts/slideLayout9.xml"/><Relationship Id="rId35" Type="http://schemas.openxmlformats.org/officeDocument/2006/relationships/slideLayout" Target="../slideLayouts/slideLayout10.xml"/><Relationship Id="rId36" Type="http://schemas.openxmlformats.org/officeDocument/2006/relationships/slideLayout" Target="../slideLayouts/slideLayout11.xml"/><Relationship Id="rId3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69880" y="712800"/>
            <a:ext cx="900000" cy="1115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50800" y="177948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69880" y="11160000"/>
            <a:ext cx="91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36640" y="8571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479520" y="1384200"/>
            <a:ext cx="1079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2f8b4e"/>
                </a:solidFill>
                <a:latin typeface="Arial Black"/>
              </a:rPr>
              <a:t>PETROBRAS</a:t>
            </a:r>
            <a:r>
              <a:rPr b="0" i="1" lang="en-US" sz="1500" spc="-1" strike="noStrike">
                <a:solidFill>
                  <a:srgbClr val="2f8b4e"/>
                </a:solidFill>
                <a:latin typeface="Arial Blac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-1239840" y="3135960"/>
            <a:ext cx="45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ploração &amp; Produção - E&amp;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598320" y="11398320"/>
          <a:ext cx="836640" cy="1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320" y="11398320"/>
                    <a:ext cx="83664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1577880" y="712800"/>
            <a:ext cx="900360" cy="1115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58800" y="177948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77880" y="11160000"/>
            <a:ext cx="91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5"/>
          <a:stretch/>
        </p:blipFill>
        <p:spPr>
          <a:xfrm>
            <a:off x="1844640" y="8571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1487520" y="1384200"/>
            <a:ext cx="107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2f8b4e"/>
                </a:solidFill>
                <a:latin typeface="Arial Black"/>
              </a:rPr>
              <a:t>PETROBRAS</a:t>
            </a:r>
            <a:r>
              <a:rPr b="0" i="1" lang="en-US" sz="1500" spc="-1" strike="noStrike">
                <a:solidFill>
                  <a:srgbClr val="2f8b4e"/>
                </a:solidFill>
                <a:latin typeface="Arial Blac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rot="16200000">
            <a:off x="-231840" y="3135960"/>
            <a:ext cx="45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ploração &amp; Produção - E&amp;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" name=""/>
          <p:cNvGraphicFramePr/>
          <p:nvPr/>
        </p:nvGraphicFramePr>
        <p:xfrm>
          <a:off x="1606680" y="11398320"/>
          <a:ext cx="836640" cy="17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06680" y="11398320"/>
                    <a:ext cx="83664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" name=""/>
          <p:cNvSpPr/>
          <p:nvPr/>
        </p:nvSpPr>
        <p:spPr>
          <a:xfrm>
            <a:off x="2585880" y="712800"/>
            <a:ext cx="900360" cy="1115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2567160" y="1779480"/>
            <a:ext cx="93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2585880" y="11160000"/>
            <a:ext cx="91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" name="" descr=""/>
          <p:cNvPicPr/>
          <p:nvPr/>
        </p:nvPicPr>
        <p:blipFill>
          <a:blip r:embed="rId8"/>
          <a:stretch/>
        </p:blipFill>
        <p:spPr>
          <a:xfrm>
            <a:off x="2852640" y="8571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0" name=""/>
          <p:cNvSpPr/>
          <p:nvPr/>
        </p:nvSpPr>
        <p:spPr>
          <a:xfrm>
            <a:off x="2495520" y="1384200"/>
            <a:ext cx="107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2f8b4e"/>
                </a:solidFill>
                <a:latin typeface="Arial Black"/>
              </a:rPr>
              <a:t>PETROBRAS</a:t>
            </a:r>
            <a:r>
              <a:rPr b="0" i="1" lang="en-US" sz="1500" spc="-1" strike="noStrike">
                <a:solidFill>
                  <a:srgbClr val="2f8b4e"/>
                </a:solidFill>
                <a:latin typeface="Arial Blac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 rot="16200000">
            <a:off x="775800" y="3135960"/>
            <a:ext cx="45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ploração &amp; Produção - E&amp;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" name=""/>
          <p:cNvGraphicFramePr/>
          <p:nvPr/>
        </p:nvGraphicFramePr>
        <p:xfrm>
          <a:off x="2614680" y="11398320"/>
          <a:ext cx="836640" cy="17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14680" y="11398320"/>
                    <a:ext cx="83664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" name=""/>
          <p:cNvSpPr/>
          <p:nvPr/>
        </p:nvSpPr>
        <p:spPr>
          <a:xfrm>
            <a:off x="3666960" y="712800"/>
            <a:ext cx="900360" cy="1115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3648240" y="1779480"/>
            <a:ext cx="93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3666960" y="11160000"/>
            <a:ext cx="91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" name="" descr=""/>
          <p:cNvPicPr/>
          <p:nvPr/>
        </p:nvPicPr>
        <p:blipFill>
          <a:blip r:embed="rId11"/>
          <a:stretch/>
        </p:blipFill>
        <p:spPr>
          <a:xfrm>
            <a:off x="3933720" y="8571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8" name=""/>
          <p:cNvSpPr/>
          <p:nvPr/>
        </p:nvSpPr>
        <p:spPr>
          <a:xfrm>
            <a:off x="3576600" y="1384200"/>
            <a:ext cx="107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2f8b4e"/>
                </a:solidFill>
                <a:latin typeface="Arial Black"/>
              </a:rPr>
              <a:t>PETROBRAS</a:t>
            </a:r>
            <a:r>
              <a:rPr b="0" i="1" lang="en-US" sz="1500" spc="-1" strike="noStrike">
                <a:solidFill>
                  <a:srgbClr val="2f8b4e"/>
                </a:solidFill>
                <a:latin typeface="Arial Blac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 rot="16200000">
            <a:off x="1856880" y="3135960"/>
            <a:ext cx="45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ploração &amp; Produção - E&amp;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" name=""/>
          <p:cNvGraphicFramePr/>
          <p:nvPr/>
        </p:nvGraphicFramePr>
        <p:xfrm>
          <a:off x="3695760" y="11398320"/>
          <a:ext cx="836640" cy="179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695760" y="11398320"/>
                    <a:ext cx="83664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" name=""/>
          <p:cNvSpPr/>
          <p:nvPr/>
        </p:nvSpPr>
        <p:spPr>
          <a:xfrm>
            <a:off x="4746600" y="712800"/>
            <a:ext cx="900000" cy="1115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4727520" y="177948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4746600" y="11160000"/>
            <a:ext cx="91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" name="" descr=""/>
          <p:cNvPicPr/>
          <p:nvPr/>
        </p:nvPicPr>
        <p:blipFill>
          <a:blip r:embed="rId14"/>
          <a:stretch/>
        </p:blipFill>
        <p:spPr>
          <a:xfrm>
            <a:off x="5013360" y="8571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36" name=""/>
          <p:cNvSpPr/>
          <p:nvPr/>
        </p:nvSpPr>
        <p:spPr>
          <a:xfrm>
            <a:off x="4656240" y="1384200"/>
            <a:ext cx="1079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2f8b4e"/>
                </a:solidFill>
                <a:latin typeface="Arial Black"/>
              </a:rPr>
              <a:t>PETROBRAS</a:t>
            </a:r>
            <a:r>
              <a:rPr b="0" i="1" lang="en-US" sz="1500" spc="-1" strike="noStrike">
                <a:solidFill>
                  <a:srgbClr val="2f8b4e"/>
                </a:solidFill>
                <a:latin typeface="Arial Blac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 rot="16200000">
            <a:off x="2936520" y="3135960"/>
            <a:ext cx="45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ploração &amp; Produção - E&amp;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" name=""/>
          <p:cNvGraphicFramePr/>
          <p:nvPr/>
        </p:nvGraphicFramePr>
        <p:xfrm>
          <a:off x="4775040" y="11398320"/>
          <a:ext cx="836640" cy="179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75040" y="11398320"/>
                    <a:ext cx="83664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" name=""/>
          <p:cNvSpPr/>
          <p:nvPr/>
        </p:nvSpPr>
        <p:spPr>
          <a:xfrm>
            <a:off x="5827680" y="712800"/>
            <a:ext cx="900000" cy="1115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08600" y="177948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27680" y="11160000"/>
            <a:ext cx="91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7"/>
          <a:stretch/>
        </p:blipFill>
        <p:spPr>
          <a:xfrm>
            <a:off x="6094440" y="8571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37320" y="1384200"/>
            <a:ext cx="1079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2f8b4e"/>
                </a:solidFill>
                <a:latin typeface="Arial Black"/>
              </a:rPr>
              <a:t>PETROBRAS</a:t>
            </a:r>
            <a:r>
              <a:rPr b="0" i="1" lang="en-US" sz="1500" spc="-1" strike="noStrike">
                <a:solidFill>
                  <a:srgbClr val="2f8b4e"/>
                </a:solidFill>
                <a:latin typeface="Arial Blac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4017600" y="3135960"/>
            <a:ext cx="45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ploração &amp; Produção - E&amp;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856120" y="11398320"/>
          <a:ext cx="836640" cy="1792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856120" y="11398320"/>
                    <a:ext cx="83664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6907320" y="712800"/>
            <a:ext cx="900000" cy="1115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88240" y="177948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07320" y="11160000"/>
            <a:ext cx="91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0"/>
          <a:stretch/>
        </p:blipFill>
        <p:spPr>
          <a:xfrm>
            <a:off x="7174080" y="8571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16600" y="1384200"/>
            <a:ext cx="107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2f8b4e"/>
                </a:solidFill>
                <a:latin typeface="Arial Black"/>
              </a:rPr>
              <a:t>PETROBRAS</a:t>
            </a:r>
            <a:r>
              <a:rPr b="0" i="1" lang="en-US" sz="1500" spc="-1" strike="noStrike">
                <a:solidFill>
                  <a:srgbClr val="2f8b4e"/>
                </a:solidFill>
                <a:latin typeface="Arial Blac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096880" y="3135960"/>
            <a:ext cx="45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ploração &amp; Produção - E&amp;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935760" y="11398320"/>
          <a:ext cx="836640" cy="179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35760" y="11398320"/>
                    <a:ext cx="83664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8059680" y="712800"/>
            <a:ext cx="900000" cy="1115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40600" y="177948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59680" y="11160000"/>
            <a:ext cx="91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3"/>
          <a:stretch/>
        </p:blipFill>
        <p:spPr>
          <a:xfrm>
            <a:off x="8326440" y="8571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969320" y="1384200"/>
            <a:ext cx="1079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2f8b4e"/>
                </a:solidFill>
                <a:latin typeface="Arial Black"/>
              </a:rPr>
              <a:t>PETROBRAS</a:t>
            </a:r>
            <a:r>
              <a:rPr b="0" i="1" lang="en-US" sz="1500" spc="-1" strike="noStrike">
                <a:solidFill>
                  <a:srgbClr val="2f8b4e"/>
                </a:solidFill>
                <a:latin typeface="Arial Blac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6249600" y="3135960"/>
            <a:ext cx="45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ploração &amp; Produção - E&amp;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088480" y="11398320"/>
          <a:ext cx="836280" cy="1792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088480" y="11398320"/>
                    <a:ext cx="83628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6"/>
    <p:sldLayoutId id="2147483650" r:id="rId27"/>
    <p:sldLayoutId id="2147483651" r:id="rId28"/>
    <p:sldLayoutId id="2147483652" r:id="rId29"/>
    <p:sldLayoutId id="2147483653" r:id="rId30"/>
    <p:sldLayoutId id="2147483654" r:id="rId31"/>
    <p:sldLayoutId id="2147483655" r:id="rId32"/>
    <p:sldLayoutId id="2147483656" r:id="rId33"/>
    <p:sldLayoutId id="2147483657" r:id="rId34"/>
    <p:sldLayoutId id="2147483658" r:id="rId35"/>
    <p:sldLayoutId id="2147483659" r:id="rId36"/>
    <p:sldLayoutId id="2147483660" r:id="rId3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2520" y="6040440"/>
            <a:ext cx="1150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Relató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de Impacto Ambi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- RIMA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Campo de Albacora Lest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- UN-RIO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FPSO P-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000" spc="-1" strike="noStrike">
                <a:solidFill>
                  <a:srgbClr val="0f0a7c"/>
                </a:solidFill>
                <a:latin typeface="Arial"/>
              </a:rPr>
              <a:t>Atividade de produção e escoamento de petról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000" spc="-1" strike="noStrike">
                <a:solidFill>
                  <a:srgbClr val="0f0a7c"/>
                </a:solidFill>
                <a:latin typeface="Arial"/>
              </a:rPr>
              <a:t>e gás natu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0288440"/>
            <a:ext cx="1152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zemb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4040" y="6040440"/>
            <a:ext cx="1150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Relató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de Impacto Ambi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- RIMA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Campo de Albacora Lest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- UN-RIO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FPSO P-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000" spc="-1" strike="noStrike">
                <a:solidFill>
                  <a:srgbClr val="0f0a7c"/>
                </a:solidFill>
                <a:latin typeface="Arial"/>
              </a:rPr>
              <a:t>Atividade de produção e escoamento de petról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000" spc="-1" strike="noStrike">
                <a:solidFill>
                  <a:srgbClr val="0f0a7c"/>
                </a:solidFill>
                <a:latin typeface="Arial"/>
              </a:rPr>
              <a:t>e gás natu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59080" y="10288440"/>
            <a:ext cx="1152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zemb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71760" y="6040440"/>
            <a:ext cx="1150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Relató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de Impacto Ambi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- RIMA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Campo de Albacora Lest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- UN-RIO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FPSO P-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000" spc="-1" strike="noStrike">
                <a:solidFill>
                  <a:srgbClr val="0f0a7c"/>
                </a:solidFill>
                <a:latin typeface="Arial"/>
              </a:rPr>
              <a:t>Atividade de produção e escoamento de petról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000" spc="-1" strike="noStrike">
                <a:solidFill>
                  <a:srgbClr val="0f0a7c"/>
                </a:solidFill>
                <a:latin typeface="Arial"/>
              </a:rPr>
              <a:t>e gás natu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76440" y="10288440"/>
            <a:ext cx="1152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zemb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43480" y="6040440"/>
            <a:ext cx="1150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Relató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de Impacto Ambi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- RIMA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Campo de Albacora Lest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- UN-RIO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FPSO P-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000" spc="-1" strike="noStrike">
                <a:solidFill>
                  <a:srgbClr val="0f0a7c"/>
                </a:solidFill>
                <a:latin typeface="Arial"/>
              </a:rPr>
              <a:t>Atividade de produção e escoamento de petról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000" spc="-1" strike="noStrike">
                <a:solidFill>
                  <a:srgbClr val="0f0a7c"/>
                </a:solidFill>
                <a:latin typeface="Arial"/>
              </a:rPr>
              <a:t>e gás natu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48160" y="10288440"/>
            <a:ext cx="1152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zemb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22760" y="6040440"/>
            <a:ext cx="1150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Relató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de Impacto Ambi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- RIMA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Campo de Albacora Lest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- UN-RIO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FPSO P-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000" spc="-1" strike="noStrike">
                <a:solidFill>
                  <a:srgbClr val="0f0a7c"/>
                </a:solidFill>
                <a:latin typeface="Arial"/>
              </a:rPr>
              <a:t>Atividade de produção e escoamento de petról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000" spc="-1" strike="noStrike">
                <a:solidFill>
                  <a:srgbClr val="0f0a7c"/>
                </a:solidFill>
                <a:latin typeface="Arial"/>
              </a:rPr>
              <a:t>e gás natu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27440" y="10288440"/>
            <a:ext cx="1152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zemb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02400" y="6040440"/>
            <a:ext cx="1150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Relató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de Impacto Ambi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- RIMA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Campo de Albacora Lest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- UN-RIO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FPSO P-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000" spc="-1" strike="noStrike">
                <a:solidFill>
                  <a:srgbClr val="0f0a7c"/>
                </a:solidFill>
                <a:latin typeface="Arial"/>
              </a:rPr>
              <a:t>Atividade de produção e escoamento de petról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000" spc="-1" strike="noStrike">
                <a:solidFill>
                  <a:srgbClr val="0f0a7c"/>
                </a:solidFill>
                <a:latin typeface="Arial"/>
              </a:rPr>
              <a:t>e gás natu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07080" y="10288440"/>
            <a:ext cx="1152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zemb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3480" y="6040440"/>
            <a:ext cx="1150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Relató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de Impacto Ambi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- RIMA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Campo de Albacora Lest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- UN-RIO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FPSO P-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000" spc="-1" strike="noStrike">
                <a:solidFill>
                  <a:srgbClr val="0f0a7c"/>
                </a:solidFill>
                <a:latin typeface="Arial"/>
              </a:rPr>
              <a:t>Atividade de produção e escoamento de petról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000" spc="-1" strike="noStrike">
                <a:solidFill>
                  <a:srgbClr val="0f0a7c"/>
                </a:solidFill>
                <a:latin typeface="Arial"/>
              </a:rPr>
              <a:t>e gás natu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8160" y="10288440"/>
            <a:ext cx="1152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zemb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35840" y="6040440"/>
            <a:ext cx="1150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Relató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de Impacto Ambi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- RIMA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Campo de Albacora Lest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- UN-RIO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f0a7c"/>
                </a:solidFill>
                <a:latin typeface="Arial"/>
              </a:rPr>
              <a:t>FPSO P-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000" spc="-1" strike="noStrike">
                <a:solidFill>
                  <a:srgbClr val="0f0a7c"/>
                </a:solidFill>
                <a:latin typeface="Arial"/>
              </a:rPr>
              <a:t>Atividade de produção e escoamento de petról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000" spc="-1" strike="noStrike">
                <a:solidFill>
                  <a:srgbClr val="0f0a7c"/>
                </a:solidFill>
                <a:latin typeface="Arial"/>
              </a:rPr>
              <a:t>e gás natu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40520" y="10288440"/>
            <a:ext cx="1152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zemb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4:09:42Z</dcterms:created>
  <dc:creator>E&amp;P</dc:creator>
  <dc:description/>
  <dc:language>en-US</dc:language>
  <cp:lastModifiedBy>HABTEC</cp:lastModifiedBy>
  <cp:lastPrinted>2001-10-17T20:12:51Z</cp:lastPrinted>
  <dcterms:modified xsi:type="dcterms:W3CDTF">2002-12-18T19:09:24Z</dcterms:modified>
  <cp:revision>51</cp:revision>
  <dc:subject/>
  <dc:title>Slide sem título </dc:title>
</cp:coreProperties>
</file>